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50920" y="684360"/>
            <a:ext cx="4556160" cy="341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E993-09E0-41E9-8F96-E284C496DE9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84360"/>
            <a:ext cx="4556160" cy="3417840"/>
          </a:xfrm>
          <a:prstGeom prst="rect">
            <a:avLst/>
          </a:prstGeom>
          <a:ln w="0">
            <a:noFill/>
          </a:ln>
        </p:spPr>
      </p:sp>
      <p:sp>
        <p:nvSpPr>
          <p:cNvPr id="16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Indians – Traditions, Customs, Spirit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OF 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 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mp;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 – Traditions, Customs, Spiritua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CONT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Mor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mp;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616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tors – Traditionally, an elder would hear both sides to a story and mediate to solve the confl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iplinarians – Grown children often lived with parents in an extended family situation.  The grandparents would discipline the children, not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 Grandparents were admired for their knowledge and wisdom which they often conveyed through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 Because of their knowledge and wisdom, elders often make decisions effecting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tors – Traditionally, an elder would hear both sides to a story and mediate to solve the confli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iplinarians – Grown children often lived with parents in an extended family situation.  The grandparents would discipline the children, not the par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 Grandparents were admired for their knowledge and wisdom which they often conveyed through stor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 Because of their knowledge and wisdom, elders often make decisions effecting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84360"/>
            <a:ext cx="4556160" cy="3417840"/>
          </a:xfrm>
          <a:prstGeom prst="rect">
            <a:avLst/>
          </a:prstGeom>
          <a:ln w="0">
            <a:noFill/>
          </a:ln>
        </p:spPr>
      </p:sp>
      <p:sp>
        <p:nvSpPr>
          <p:cNvPr id="1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lder re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lder rela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616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being healthy and a whole person were essential to living a good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ribes visualized health as a medicine wheel with four parts – spiritual, mental, physical, &amp;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healthy, all aspects of the medicine wheel had to be in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ncept is that man is three-fold – mind, body,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is harmony in body, mind,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or unwellness) was (and is) often a cho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being healthy and a whole person were essential to living a good li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ribes visualized health as a medicine wheel with four parts – spiritual, mental, physical, &amp; emotion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 healthy, all aspects of the medicine wheel had to be in bal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man is three-fold – mind, body,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is harmony in body, mind,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or unwellness) was (and is) often a cho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84360"/>
            <a:ext cx="4556160" cy="3417840"/>
          </a:xfrm>
          <a:prstGeom prst="rect">
            <a:avLst/>
          </a:prstGeom>
          <a:ln w="0">
            <a:noFill/>
          </a:ln>
        </p:spPr>
      </p:sp>
      <p:sp>
        <p:nvSpPr>
          <p:cNvPr id="1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sical disability is irrelevant to a person’s state of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disability is irrelevant to a person’s state of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616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l responsible for our state of wellness; with the way we promote harmony between ourselves and the people we m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responsible for our state of wellness; with the way we promote harmony between ourselves and the people we me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84360"/>
            <a:ext cx="4556160" cy="3417840"/>
          </a:xfrm>
          <a:prstGeom prst="rect">
            <a:avLst/>
          </a:prstGeom>
          <a:ln w="0">
            <a:noFill/>
          </a:ln>
        </p:spPr>
      </p:sp>
      <p:sp>
        <p:nvSpPr>
          <p:cNvPr id="20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ate of harmony is like a protective shield keeping us from dangers inherent in negative or disharmonious sit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Indian belief, it is each person’s responsibilit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protective shield strong and beautiful, not o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his own well-being, but for the well-being of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cust, 1985, p.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for ways to help disabled people on a reservation ask, “What can we do to help our people fulfill their roles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of harmony is like a protective shield keeping us from dangers inherent in negative or disharmonious situ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Indian belief, it is each person’s responsibility t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this protective shield strong and beautiful, not on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his own well-being, but for the well-being of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cust, 1985, p. 17)</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for ways to help disabled people on a reservation ask, “What can we do to help our people fulfill their roles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616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L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red about people, not just family, but the whol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spected the people a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rved the people.  The leaders often would not eat until everyone else in the tribe had e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honest.  They did not l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courageous.  They dared to do what needed to be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not afraid to face reality and defin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Lea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ed about people, not just family, but the whol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spected the people around th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rved the people.  The leaders often would not eat until everyone else in the tribe had ea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honest.  They did not li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courageous.  They dared to do what needed to be d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not afraid to face reality and define proble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84360"/>
            <a:ext cx="4556160" cy="3417840"/>
          </a:xfrm>
          <a:prstGeom prst="rect">
            <a:avLst/>
          </a:prstGeom>
          <a:ln w="0">
            <a:noFill/>
          </a:ln>
        </p:spPr>
      </p:sp>
      <p:sp>
        <p:nvSpPr>
          <p:cNvPr id="21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ummarizes some of the ideals, beliefs, and values of traditional Indian ways (ways before the Europeans colonized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need to hold on to if we wish to remain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build upon if we wish to grow as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spread to our non-Indian brothers and sisters if America is going to grow as a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ummarizes some of the ideals, beliefs, and values of traditional Indian ways (ways before the Europeans colonized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need to hold on to if we wish to remain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build upon if we wish to grow as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spread to our non-Indian brothers and sisters if America is going to grow as a coun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84360"/>
            <a:ext cx="4556160" cy="3417840"/>
          </a:xfrm>
          <a:prstGeom prst="rect">
            <a:avLst/>
          </a:prstGeom>
          <a:ln w="0">
            <a:noFill/>
          </a:ln>
        </p:spPr>
      </p:sp>
      <p:sp>
        <p:nvSpPr>
          <p:cNvPr id="21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Methods &amp;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references used to prepare this presentation consisted of a research project (Becker, Poupart, &amp; Martinez, 2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project was to reflect on traditional American Indian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hieve this objective, several elders were inter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 represented Ojibwe, Lakota, Dakota, and Ho-Chunk n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men and women, born during World War II, particip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hose to remain 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ote from one of these elders is used in this presentation, the quote will be marked “Anonymous.”</a:t>
            </a:r>
            <a:r>
              <a:rPr b="0" lang="en-US" sz="1200" spc="-1" strike="noStrike">
                <a:solidFill>
                  <a:srgbClr val="000000"/>
                </a:solidFill>
                <a:latin typeface="Calibri"/>
              </a:rPr>
              <a:t>	</a:t>
            </a:r>
            <a:r>
              <a:rPr b="0" lang="en-US" sz="1200" spc="-1" strike="noStrike">
                <a:solidFill>
                  <a:srgbClr val="000000"/>
                </a:solidFill>
                <a:latin typeface="Calibri"/>
              </a:rPr>
              <a:t>     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of Methods &amp; Sour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ferences used to prepare this presentation consisted of a research project (Becker, Poupart, &amp; Martinez, 200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project was to reflect on traditional American Indian way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is objective, several elders were interview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 represented Ojibwe, Lakota, Dakota, and Ho-Chunk natio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en and women, born during World War II, particip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chose to remain 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quote from one of these elders is used in this presentation, the quote will be marked “Anonymous.”</a:t>
            </a:r>
            <a:r>
              <a:rPr b="0" lang="en-US" sz="1200" spc="-1" strike="noStrike">
                <a:solidFill>
                  <a:srgbClr val="000000"/>
                </a:solidFill>
                <a:latin typeface="Times New Roman"/>
              </a:rPr>
              <a:t>	</a:t>
            </a:r>
            <a:r>
              <a:rPr b="0" lang="en-US" sz="1200" spc="-1" strike="noStrike">
                <a:solidFill>
                  <a:srgbClr val="000000"/>
                </a:solidFill>
                <a:latin typeface="Times New Roman"/>
              </a:rPr>
              <a:t>     Thank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84360"/>
            <a:ext cx="4556160" cy="3417840"/>
          </a:xfrm>
          <a:prstGeom prst="rect">
            <a:avLst/>
          </a:prstGeom>
          <a:ln w="0">
            <a:noFill/>
          </a:ln>
        </p:spPr>
      </p:sp>
      <p:sp>
        <p:nvSpPr>
          <p:cNvPr id="21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616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life is centered on the four seasons and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spirituality is not a ‘religion’ so much as it is an integral seamless part of the very being of Indi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pirituality and beliefs are sacred.  To use them in any way other than the way they were intended would be sacrileg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to live in the traditional ways is not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life is centered on the four seasons and the natur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pirituality is not a ‘religion’ so much as it is an integral seamless part of the very being of Indian socie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spirituality and beliefs are sacred.  To use them in any way other than the way they were intended would be sacrileg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to live in the traditional ways is not eas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84360"/>
            <a:ext cx="4556160" cy="3417840"/>
          </a:xfrm>
          <a:prstGeom prst="rect">
            <a:avLst/>
          </a:prstGeom>
          <a:ln w="0">
            <a:noFill/>
          </a:ln>
        </p:spPr>
      </p:sp>
      <p:sp>
        <p:nvSpPr>
          <p:cNvPr id="22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84360"/>
            <a:ext cx="4556160" cy="3417840"/>
          </a:xfrm>
          <a:prstGeom prst="rect">
            <a:avLst/>
          </a:prstGeom>
          <a:ln w="0">
            <a:noFill/>
          </a:ln>
        </p:spPr>
      </p:sp>
      <p:sp>
        <p:nvSpPr>
          <p:cNvPr id="22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s, T. E.  (1998).  Dog Soldier Societies of the Plains.  New York, NY: Marlowe &amp; Company, Chapt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riam-Webster’s Collegiate Dictionary, Tenth Edition (Electronic Version).  (1995).  Dallas, TX: Zane Publishing, Inc. in cooperation with Merriam-Webster, In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s, T. E.  (1998).  Dog Soldier Societies of the Plains.  New York, NY: Marlowe &amp; Company, Chapter 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am-Webster’s Collegiate Dictionary, Tenth Edition (Electronic Version).  (1995).  Dallas, TX: Zane Publishing, Inc. in cooperation with Merriam-Webster, In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84360"/>
            <a:ext cx="4556160" cy="3417840"/>
          </a:xfrm>
          <a:prstGeom prst="rect">
            <a:avLst/>
          </a:prstGeom>
          <a:ln w="0">
            <a:noFill/>
          </a:ln>
        </p:spPr>
      </p:sp>
      <p:sp>
        <p:nvSpPr>
          <p:cNvPr id="22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616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 Common to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Supreme Being, a Creator, a Great Spirit, G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the Great Spirit has created is g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esser spirits wander the earth, some control weather, some interact with humans, some inhabit the under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as well as humans, are part of a spirit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irit world exists side-by-side with the physical world and often intermingles with this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you were conceived, before you were born, you had a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 body dies, your spirit will li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Mother Earth, and Mother Earth will take care of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 Common to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upreme Being, a Creator, a Great Spirit, G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the Great Spirit has created is g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lesser spirits wander the earth, some control weather, some interact with humans, some inhabit the under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nd animals, as well as humans, are part of a spirit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irit world exists side-by-side with the physical world and often intermingles with this physic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were conceived, before you were born, you had a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body dies, your spirit will liv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Mother Earth, and Mother Earth will take care of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616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urag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eade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o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titud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os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spon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nes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v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on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s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ag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eade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ov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titud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os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sponsibi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nes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vere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no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sd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616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ing Ceremony – To give person a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 Listening – Method of tea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Quest – Passage from boyhood to man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Wow – Place to socialize with other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l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n Dance – a replay of cre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eat Lodge – for spiritual renewal and he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 Medicine Lodge – Good place to learn tra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ing Ceremonies – to appease spirits of animals k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eremony – To give person a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telling / Listening – Method of teach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 Quest – Passage from boyhood to manh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Wow – Place to socialize with other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l Celebr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n Dance – a replay of cre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weat Lodge – for spiritual renewal and heal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Medicine Lodge – Good place to learn tradi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ing Ceremonies – to appease spirits of animals kil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616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ily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red Path – Day began with man walking reverently along a sacred path, among all living things on earth and under the supernatural powers dwelling in hea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ly Practi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ed Path – Day began with man walking reverently along a sacred path, among all living things on earth and under the supernatural powers dwelling in 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616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i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ek Knowledge from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o be Quiet and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by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ect the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hrough play, by practicing what they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k Knowledge from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o be Quiet and Lis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by Exam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pect the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hrough play, by practicing what they se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616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ors (Warriors) – Keep tribe sa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s – Provided for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items for Rituals/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olde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ors (Warriors) – Keep tribe sa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ers – Provided for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ed 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items for Rituals/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older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616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gar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camp or take down ca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nded down through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f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gar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camp or take down cam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young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ties handed down through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36955-E2F0-4465-B4D1-709B98A2A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6D14D-4BA8-49C5-B2B9-C2C92CEF5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958E1-C26F-4672-85A0-33681DB70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FBBFF-9D1B-4890-9622-90686E115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7F3812-554F-43AF-940D-40DE1AB4B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85C23-14FC-432C-A9D2-977E05F15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E71A7-9BE8-425B-9E4E-D914D620F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D1F98-D9A3-4DD1-B848-FE8F466AB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A9797-3DF2-47EE-9FE4-D59347064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57F7C-3EC7-4DBE-ABAF-2A1719D39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2F3A1-F4C6-4E9F-861E-0F79D4D6B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03528-7340-4F7E-A27D-52277E4F2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52111-9CB0-4188-96C0-9EFEA255A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07380-7EDC-4CB5-8DF4-589357BD3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FD867-DC7C-4CD6-A018-A487DC623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35034-0CF6-4BE1-BBA2-AE5AEE410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60AF8-8560-4A85-A3DF-695AC73FA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8FBC7-C15E-4045-97D0-8B6C5290A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4F32F-2ECF-4C90-888B-76B4D4F92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A99A1-7EA9-46AE-8E2C-3EBB03CC1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49470-80A5-4C76-9767-C6C38626E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42E87-1777-454B-9139-A06676E22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F3B50-4D2A-4608-8D05-A781D8953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850C1-21B1-4B95-9334-52ACE2604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6B9E-9AFE-4336-A134-B037B617BE8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5BC3-0551-4DFB-BE74-742384FC392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143000" y="304920"/>
            <a:ext cx="7696080" cy="1066680"/>
          </a:xfrm>
          <a:prstGeom prst="rect">
            <a:avLst/>
          </a:prstGeom>
          <a:solidFill>
            <a:srgbClr val="dfd6c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Plains Indians – Traditions, Customs, Spirituality</a:t>
            </a:r>
            <a:endParaRPr b="0" lang="en-US" sz="2800" spc="-1" strike="noStrike">
              <a:solidFill>
                <a:srgbClr val="000000"/>
              </a:solidFill>
              <a:latin typeface="Times New Roman"/>
            </a:endParaRPr>
          </a:p>
        </p:txBody>
      </p:sp>
      <p:sp>
        <p:nvSpPr>
          <p:cNvPr id="96" name="Rectangle 3"/>
          <p:cNvSpPr/>
          <p:nvPr/>
        </p:nvSpPr>
        <p:spPr>
          <a:xfrm>
            <a:off x="3962520" y="1905120"/>
            <a:ext cx="4876560" cy="434340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BLE OF CONTENT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verview</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lief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Values / Mor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itual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ol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Childr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Wo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Elder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alth &amp; the Disable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eferences</a:t>
            </a:r>
            <a:endParaRPr b="0" lang="en-US" sz="2000" spc="-1" strike="noStrike">
              <a:solidFill>
                <a:srgbClr val="000000"/>
              </a:solidFill>
              <a:latin typeface="Times New Roman"/>
            </a:endParaRPr>
          </a:p>
        </p:txBody>
      </p:sp>
      <p:pic>
        <p:nvPicPr>
          <p:cNvPr id="97" name="Picture 4" descr="C:\Documents and Settings\Susan\Application Data\Microsoft\Media Catalog\Downloaded Clips\cl3a\j0145147.jpg"/>
          <p:cNvPicPr/>
          <p:nvPr/>
        </p:nvPicPr>
        <p:blipFill>
          <a:blip r:embed="rId1"/>
          <a:stretch/>
        </p:blipFill>
        <p:spPr>
          <a:xfrm>
            <a:off x="990720" y="1905120"/>
            <a:ext cx="2801880" cy="4343400"/>
          </a:xfrm>
          <a:prstGeom prst="rect">
            <a:avLst/>
          </a:prstGeom>
          <a:ln w="0">
            <a:noFill/>
          </a:ln>
        </p:spPr>
      </p:pic>
      <p:sp>
        <p:nvSpPr>
          <p:cNvPr id="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Mediators</a:t>
            </a:r>
            <a:r>
              <a:rPr b="0" lang="en-US" sz="2400" spc="-1" strike="noStrike">
                <a:solidFill>
                  <a:srgbClr val="000000"/>
                </a:solidFill>
                <a:latin typeface="Footlight MT Light"/>
              </a:rPr>
              <a:t> – Traditionally, an elder would hear both sides to a story and mediate to solve the conflic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Disciplinarians</a:t>
            </a:r>
            <a:r>
              <a:rPr b="0" lang="en-US" sz="2400" spc="-1" strike="noStrike">
                <a:solidFill>
                  <a:srgbClr val="000000"/>
                </a:solidFill>
                <a:latin typeface="Footlight MT Light"/>
              </a:rPr>
              <a:t> – Grown children often lived with parents in an extended family situation.  The grandparents would discipline the children, not the par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Teachers</a:t>
            </a:r>
            <a:r>
              <a:rPr b="0" lang="en-US" sz="2400" spc="-1" strike="noStrike">
                <a:solidFill>
                  <a:srgbClr val="000000"/>
                </a:solidFill>
                <a:latin typeface="Footlight MT Light"/>
              </a:rPr>
              <a:t> – Grandparents were admired for their knowledge and wisdom which they often conveyed through stor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Leaders</a:t>
            </a:r>
            <a:r>
              <a:rPr b="0" lang="en-US" sz="2400" spc="-1" strike="noStrike">
                <a:solidFill>
                  <a:srgbClr val="000000"/>
                </a:solidFill>
                <a:latin typeface="Footlight MT Light"/>
              </a:rPr>
              <a:t> – Because of their knowledge and wisdom, elders often make decisions effecting the tribe.</a:t>
            </a:r>
            <a:endParaRPr b="0" lang="en-US" sz="2400" spc="-1" strike="noStrike">
              <a:solidFill>
                <a:srgbClr val="000000"/>
              </a:solidFill>
              <a:latin typeface="Times New Roman"/>
            </a:endParaRPr>
          </a:p>
        </p:txBody>
      </p:sp>
      <p:sp>
        <p:nvSpPr>
          <p:cNvPr id="12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ootlight MT Light"/>
              </a:rPr>
              <a:t>One Elder relates:</a:t>
            </a:r>
            <a:endParaRPr b="0" lang="en-US" sz="24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20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a:t>
            </a:r>
            <a:endParaRPr b="0" lang="en-US" sz="2800" spc="-1" strike="noStrike">
              <a:solidFill>
                <a:srgbClr val="000000"/>
              </a:solidFill>
              <a:latin typeface="Times New Roman"/>
            </a:endParaRPr>
          </a:p>
        </p:txBody>
      </p:sp>
      <p:sp>
        <p:nvSpPr>
          <p:cNvPr id="130" name="Rectangle 3"/>
          <p:cNvSpPr/>
          <p:nvPr/>
        </p:nvSpPr>
        <p:spPr>
          <a:xfrm>
            <a:off x="990720" y="1905120"/>
            <a:ext cx="7848360" cy="49528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raditionally being healthy and a whole person were essential to living a good li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ome tribes visualized health as a medicine wheel with four parts – spiritual, mental, physical, &amp; emotional.</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In order to be healthy, all aspects of the medicine wheel had to be in bala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nother concept is that man is three-fold – mind, body,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is harmony in body, mind,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or unwellness) was (and is) often a choice.</a:t>
            </a:r>
            <a:endParaRPr b="0" lang="en-US" sz="2400" spc="-1" strike="noStrike">
              <a:solidFill>
                <a:srgbClr val="000000"/>
              </a:solidFill>
              <a:latin typeface="Times New Roman"/>
            </a:endParaRPr>
          </a:p>
        </p:txBody>
      </p:sp>
      <p:sp>
        <p:nvSpPr>
          <p:cNvPr id="13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3" name="Rectangle 3"/>
          <p:cNvSpPr/>
          <p:nvPr/>
        </p:nvSpPr>
        <p:spPr>
          <a:xfrm>
            <a:off x="1066680" y="1905120"/>
            <a:ext cx="7772400" cy="48006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 physical disability is irrelevant to a person’s state of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ow to deal with a physical disability is not something an Indian would think about.  Instead, an Indian would probably look at how to enhance an individual’s ability to fulfill his or her role within the community.</a:t>
            </a:r>
            <a:endParaRPr b="0" lang="en-US" sz="2400" spc="-1" strike="noStrike">
              <a:solidFill>
                <a:srgbClr val="000000"/>
              </a:solidFill>
              <a:latin typeface="Times New Roman"/>
            </a:endParaRPr>
          </a:p>
        </p:txBody>
      </p:sp>
      <p:sp>
        <p:nvSpPr>
          <p:cNvPr id="13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6"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19160" indent="-4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 are all responsible for our state of wellness; with the way we promote harmony between ourselves and the people we meet.</a:t>
            </a:r>
            <a:endParaRPr b="0" lang="en-US" sz="2400" spc="-1" strike="noStrike">
              <a:solidFill>
                <a:srgbClr val="000000"/>
              </a:solidFill>
              <a:latin typeface="Times New Roman"/>
            </a:endParaRPr>
          </a:p>
          <a:p>
            <a:pPr lvl="2" marL="730080" indent="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ootlight MT Light"/>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2400" spc="-1" strike="noStrike">
              <a:solidFill>
                <a:srgbClr val="000000"/>
              </a:solidFill>
              <a:latin typeface="Times New Roman"/>
            </a:endParaRPr>
          </a:p>
        </p:txBody>
      </p:sp>
      <p:sp>
        <p:nvSpPr>
          <p:cNvPr id="1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9"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state of harmony is like a </a:t>
            </a:r>
            <a:r>
              <a:rPr b="1" lang="en-US" sz="2400" spc="-1" strike="noStrike">
                <a:solidFill>
                  <a:srgbClr val="000000"/>
                </a:solidFill>
                <a:latin typeface="Footlight MT Light"/>
              </a:rPr>
              <a:t>protective shield</a:t>
            </a:r>
            <a:r>
              <a:rPr b="0" lang="en-US" sz="2400" spc="-1" strike="noStrike">
                <a:solidFill>
                  <a:srgbClr val="000000"/>
                </a:solidFill>
                <a:latin typeface="Footlight MT Light"/>
              </a:rPr>
              <a:t> keeping us from dangers inherent in negative or disharmonious situations.</a:t>
            </a:r>
            <a:endParaRPr b="0" lang="en-US" sz="24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In the Indian belief, it is each person’s responsibility to</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keep this protective shield strong and beautiful, not only</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for his own well-being, but for the well-being of the tribe.</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Locust, 1985, p. 17)</a:t>
            </a:r>
            <a:endParaRPr b="0" lang="en-US" sz="2000" spc="-1" strike="noStrike">
              <a:solidFill>
                <a:srgbClr val="000000"/>
              </a:solidFill>
              <a:latin typeface="Times New Roman"/>
            </a:endParaRPr>
          </a:p>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hen looking for ways to help disabled people on a reservation ask, “What can we do to help our people fulfill their roles within the community?”</a:t>
            </a:r>
            <a:endParaRPr b="0" lang="en-US" sz="2400" spc="-1" strike="noStrike">
              <a:solidFill>
                <a:srgbClr val="000000"/>
              </a:solidFill>
              <a:latin typeface="Times New Roman"/>
            </a:endParaRPr>
          </a:p>
        </p:txBody>
      </p:sp>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Leaders</a:t>
            </a:r>
            <a:endParaRPr b="0" lang="en-US" sz="2800" spc="-1" strike="noStrike">
              <a:solidFill>
                <a:srgbClr val="000000"/>
              </a:solidFill>
              <a:latin typeface="Times New Roman"/>
            </a:endParaRPr>
          </a:p>
        </p:txBody>
      </p:sp>
      <p:sp>
        <p:nvSpPr>
          <p:cNvPr id="142" name="Rectangle 3"/>
          <p:cNvSpPr/>
          <p:nvPr/>
        </p:nvSpPr>
        <p:spPr>
          <a:xfrm>
            <a:off x="990720" y="2057400"/>
            <a:ext cx="7848360" cy="46483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cared</a:t>
            </a:r>
            <a:r>
              <a:rPr b="0" lang="en-US" sz="2400" spc="-1" strike="noStrike">
                <a:solidFill>
                  <a:srgbClr val="000000"/>
                </a:solidFill>
                <a:latin typeface="Footlight MT Light"/>
              </a:rPr>
              <a:t> about people, not just family, but the whole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respected</a:t>
            </a:r>
            <a:r>
              <a:rPr b="0" lang="en-US" sz="2400" spc="-1" strike="noStrike">
                <a:solidFill>
                  <a:srgbClr val="000000"/>
                </a:solidFill>
                <a:latin typeface="Footlight MT Light"/>
              </a:rPr>
              <a:t> the people around them.</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served</a:t>
            </a:r>
            <a:r>
              <a:rPr b="0" lang="en-US" sz="2400" spc="-1" strike="noStrike">
                <a:solidFill>
                  <a:srgbClr val="000000"/>
                </a:solidFill>
                <a:latin typeface="Footlight MT Light"/>
              </a:rPr>
              <a:t> the people.  The leaders often would not eat until everyone else in the tribe had ea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honest</a:t>
            </a:r>
            <a:r>
              <a:rPr b="0" lang="en-US" sz="2400" spc="-1" strike="noStrike">
                <a:solidFill>
                  <a:srgbClr val="000000"/>
                </a:solidFill>
                <a:latin typeface="Footlight MT Light"/>
              </a:rPr>
              <a:t>.  They did not li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courageous</a:t>
            </a:r>
            <a:r>
              <a:rPr b="0" lang="en-US" sz="2400" spc="-1" strike="noStrike">
                <a:solidFill>
                  <a:srgbClr val="000000"/>
                </a:solidFill>
                <a:latin typeface="Footlight MT Light"/>
              </a:rPr>
              <a:t>.  They dared to do what needed to be don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not afraid</a:t>
            </a:r>
            <a:r>
              <a:rPr b="0" lang="en-US" sz="2400" spc="-1" strike="noStrike">
                <a:solidFill>
                  <a:srgbClr val="000000"/>
                </a:solidFill>
                <a:latin typeface="Footlight MT Light"/>
              </a:rPr>
              <a:t> </a:t>
            </a:r>
            <a:r>
              <a:rPr b="1" lang="en-US" sz="2400" spc="-1" strike="noStrike">
                <a:solidFill>
                  <a:srgbClr val="000000"/>
                </a:solidFill>
                <a:latin typeface="Footlight MT Light"/>
              </a:rPr>
              <a:t>to face reality</a:t>
            </a:r>
            <a:r>
              <a:rPr b="0" lang="en-US" sz="2400" spc="-1" strike="noStrike">
                <a:solidFill>
                  <a:srgbClr val="000000"/>
                </a:solidFill>
                <a:latin typeface="Footlight MT Light"/>
              </a:rPr>
              <a:t> and </a:t>
            </a:r>
            <a:r>
              <a:rPr b="1" lang="en-US" sz="2400" spc="-1" strike="noStrike">
                <a:solidFill>
                  <a:srgbClr val="000000"/>
                </a:solidFill>
                <a:latin typeface="Footlight MT Light"/>
              </a:rPr>
              <a:t>define problems</a:t>
            </a:r>
            <a:r>
              <a:rPr b="0" lang="en-US" sz="2400" spc="-1" strike="noStrike">
                <a:solidFill>
                  <a:srgbClr val="000000"/>
                </a:solidFill>
                <a:latin typeface="Footlight MT Light"/>
              </a:rPr>
              <a:t>.</a:t>
            </a:r>
            <a:endParaRPr b="0" lang="en-US" sz="2400" spc="-1" strike="noStrike">
              <a:solidFill>
                <a:srgbClr val="000000"/>
              </a:solidFill>
              <a:latin typeface="Times New Roman"/>
            </a:endParaRPr>
          </a:p>
        </p:txBody>
      </p:sp>
      <p:sp>
        <p:nvSpPr>
          <p:cNvPr id="1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9072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Summary</a:t>
            </a:r>
            <a:endParaRPr b="0" lang="en-US" sz="2800" spc="-1" strike="noStrike">
              <a:solidFill>
                <a:srgbClr val="000000"/>
              </a:solidFill>
              <a:latin typeface="Times New Roman"/>
            </a:endParaRPr>
          </a:p>
        </p:txBody>
      </p:sp>
      <p:sp>
        <p:nvSpPr>
          <p:cNvPr id="145" name="Rectangle 3"/>
          <p:cNvSpPr/>
          <p:nvPr/>
        </p:nvSpPr>
        <p:spPr>
          <a:xfrm>
            <a:off x="99072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presentation summarizes some of the ideals, beliefs, and values of traditional Indian ways (ways before the Europeans colonized America).</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need to hold on to if we wish to remain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build upon if we wish to grow as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spread to our non-Indian brothers and sisters if America is going to grow as a country.</a:t>
            </a:r>
            <a:endParaRPr b="0" lang="en-US" sz="2400" spc="-1" strike="noStrike">
              <a:solidFill>
                <a:srgbClr val="000000"/>
              </a:solidFill>
              <a:latin typeface="Times New Roman"/>
            </a:endParaRPr>
          </a:p>
        </p:txBody>
      </p:sp>
      <p:sp>
        <p:nvSpPr>
          <p:cNvPr id="1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143000" y="304920"/>
            <a:ext cx="769608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 of Methods &amp; Sources</a:t>
            </a:r>
            <a:endParaRPr b="0" lang="en-US" sz="2800" spc="-1" strike="noStrike">
              <a:solidFill>
                <a:srgbClr val="000000"/>
              </a:solidFill>
              <a:latin typeface="Times New Roman"/>
            </a:endParaRPr>
          </a:p>
        </p:txBody>
      </p:sp>
      <p:sp>
        <p:nvSpPr>
          <p:cNvPr id="148" name="Rectangle 3"/>
          <p:cNvSpPr/>
          <p:nvPr/>
        </p:nvSpPr>
        <p:spPr>
          <a:xfrm>
            <a:off x="1143000" y="1905120"/>
            <a:ext cx="769608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ctr">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OT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ne of the references used to prepare this presentation consisted of a research project (Becker, Poupart, &amp; Martinez, 2002).</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purpose of the project was to reflect on traditional American Indian way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o achieve this objective, several elders were inter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lders represented Ojibwe, Lakota, Dakota, and Ho-Chunk nations.  </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oth men and women, born during World War II, participat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articipants chose to remain anonym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a quote from one of these elders is used in this presentation, the quote will be marked “Anonymous.”</a:t>
            </a:r>
            <a:r>
              <a:rPr b="0" lang="en-US" sz="2000" spc="-1" strike="noStrike">
                <a:solidFill>
                  <a:srgbClr val="000000"/>
                </a:solidFill>
                <a:latin typeface="Footlight MT Light"/>
              </a:rPr>
              <a:t>	</a:t>
            </a:r>
            <a:r>
              <a:rPr b="0" lang="en-US" sz="2000" spc="-1" strike="noStrike">
                <a:solidFill>
                  <a:srgbClr val="000000"/>
                </a:solidFill>
                <a:latin typeface="Footlight MT Light"/>
              </a:rPr>
              <a:t>     Thank You!</a:t>
            </a:r>
            <a:endParaRPr b="0" lang="en-US" sz="2000" spc="-1" strike="noStrike">
              <a:solidFill>
                <a:srgbClr val="000000"/>
              </a:solidFill>
              <a:latin typeface="Times New Roman"/>
            </a:endParaRPr>
          </a:p>
        </p:txBody>
      </p:sp>
      <p:sp>
        <p:nvSpPr>
          <p:cNvPr id="14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a:t>
            </a:r>
            <a:endParaRPr b="0" lang="en-US" sz="2800" spc="-1" strike="noStrike">
              <a:solidFill>
                <a:srgbClr val="000000"/>
              </a:solidFill>
              <a:latin typeface="Times New Roman"/>
            </a:endParaRPr>
          </a:p>
        </p:txBody>
      </p:sp>
      <p:sp>
        <p:nvSpPr>
          <p:cNvPr id="15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Becker, T., Poupart, J., &amp; Martinez, C.  (2002).  Reflections on Traditional American Indian Ways.  St. Paul, MN: American Indian Policy Center.  Retrieved February 27, 2007 from American Indian Policy Center Web site, http://www.airpi.org/research/reflect.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lay, J. A.  (1992).  Native American Independent Living.  </a:t>
            </a:r>
            <a:r>
              <a:rPr b="0" i="1" lang="en-US" sz="2400" spc="-1" strike="noStrike">
                <a:solidFill>
                  <a:srgbClr val="000000"/>
                </a:solidFill>
                <a:latin typeface="Footlight MT Light"/>
              </a:rPr>
              <a:t>Rural Special Educatin Quarterly, 11</a:t>
            </a:r>
            <a:r>
              <a:rPr b="0" lang="en-US" sz="2400" spc="-1" strike="noStrike">
                <a:solidFill>
                  <a:srgbClr val="000000"/>
                </a:solidFill>
                <a:latin typeface="Footlight MT Light"/>
              </a:rPr>
              <a:t>(1), 41-50.  Retrieved March 14, 2007 from http://rtc.ruralinstitute.umt.edu/Indian/NativeIL.htm</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a:t>
            </a:r>
            <a:endParaRPr b="0" lang="en-US" sz="2800" spc="-1" strike="noStrike">
              <a:solidFill>
                <a:srgbClr val="000000"/>
              </a:solidFill>
              <a:latin typeface="Times New Roman"/>
            </a:endParaRPr>
          </a:p>
        </p:txBody>
      </p:sp>
      <p:sp>
        <p:nvSpPr>
          <p:cNvPr id="100" name="Rectangle 3"/>
          <p:cNvSpPr/>
          <p:nvPr/>
        </p:nvSpPr>
        <p:spPr>
          <a:xfrm>
            <a:off x="990720" y="1905120"/>
            <a:ext cx="7848360" cy="44956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American Indian life is centered on the four seasons and the natur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raditional spirituality is not a ‘religion’ so much as it is an integral seamless part of the very being of Indian societ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ative spirituality and beliefs are sacred.  To use them in any way other than the way they were intended would be sacrilegi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Learning to live in the traditional ways is not eas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Everything he’s [The Great Spirit has] given you, you have to walk through, you have to experience it.  You can’t always walk in the grass, sometimes you have to walk through the sagebrush.</a:t>
            </a:r>
            <a:endParaRPr b="0" lang="en-US" sz="2000" spc="-1" strike="noStrike">
              <a:solidFill>
                <a:srgbClr val="000000"/>
              </a:solidFill>
              <a:latin typeface="Times New Roman"/>
            </a:endParaRPr>
          </a:p>
          <a:p>
            <a:pPr marL="457200" indent="-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nielson, R. &amp; Fassinger, P.  (2007, January).  A Focus on American Indian Children.  </a:t>
            </a:r>
            <a:r>
              <a:rPr b="0" i="1" lang="en-US" sz="2400" spc="-1" strike="noStrike">
                <a:solidFill>
                  <a:srgbClr val="000000"/>
                </a:solidFill>
                <a:latin typeface="Footlight MT Light"/>
              </a:rPr>
              <a:t>Inform 5</a:t>
            </a:r>
            <a:r>
              <a:rPr b="0" lang="en-US" sz="2400" spc="-1" strike="noStrike">
                <a:solidFill>
                  <a:srgbClr val="000000"/>
                </a:solidFill>
                <a:latin typeface="Footlight MT Light"/>
              </a:rPr>
              <a:t>(1).  Retrieved March 14, 2007 from North Dakota Kids Count Web site at:  http://www.ndkidscount.org/publications/inform/5_1Inform.pdf </a:t>
            </a:r>
            <a:endParaRPr b="0" lang="en-US" sz="2400" spc="-1" strike="noStrike">
              <a:solidFill>
                <a:srgbClr val="000000"/>
              </a:solidFill>
              <a:latin typeface="Times New Roman"/>
            </a:endParaRPr>
          </a:p>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ea typeface="Times New Roman"/>
              </a:rPr>
              <a:t>Giannetta, J.  (2002, June).  The Plains Indians – Family Life, The Children, Duties.  Retrieved March 31, 2007 from SaskSchools.ca website:  http://www.saskschools.ca/~gregory/firstnations/family.html</a:t>
            </a:r>
            <a:endParaRPr b="0" lang="en-US" sz="2400" spc="-1" strike="noStrike">
              <a:solidFill>
                <a:srgbClr val="000000"/>
              </a:solidFill>
              <a:latin typeface="Times New Roman"/>
            </a:endParaRPr>
          </a:p>
        </p:txBody>
      </p:sp>
      <p:sp>
        <p:nvSpPr>
          <p:cNvPr id="1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ails, T. E.  (1998).  Dog Soldier Societies of the Plains.  New York, NY: Marlowe &amp; Company, Chapter 1.</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erriam-Webster’s Collegiate Dictionary, Tenth Edition (Electronic Version).  (1995).  Dallas, TX: Zane Publishing, Inc. in cooperation with Merriam-Webster, Inc.</a:t>
            </a:r>
            <a:endParaRPr b="0" lang="en-US" sz="2200" spc="-1" strike="noStrike">
              <a:solidFill>
                <a:srgbClr val="000000"/>
              </a:solidFill>
              <a:latin typeface="Times New Roman"/>
            </a:endParaRPr>
          </a:p>
        </p:txBody>
      </p:sp>
      <p:sp>
        <p:nvSpPr>
          <p:cNvPr id="1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60"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obinson, B. A.  (2006, December 19).  </a:t>
            </a:r>
            <a:r>
              <a:rPr b="0" i="1" lang="en-US" sz="2400" spc="-1" strike="noStrike">
                <a:solidFill>
                  <a:srgbClr val="000000"/>
                </a:solidFill>
                <a:latin typeface="Footlight MT Light"/>
              </a:rPr>
              <a:t>Native American Spirituality</a:t>
            </a:r>
            <a:r>
              <a:rPr b="0" lang="en-US" sz="2400" spc="-1" strike="noStrike">
                <a:solidFill>
                  <a:srgbClr val="000000"/>
                </a:solidFill>
                <a:latin typeface="Footlight MT Light"/>
              </a:rPr>
              <a:t>.  Retrieved January 31, 2007 from RELIGIOUS TOLERANCE.ORG, Ontario Consultants on Religious Tolerance, Web site:  http://www.religioustolerance.org/nataspir.htm</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illiams, R.  (2003, November 20).  </a:t>
            </a:r>
            <a:r>
              <a:rPr b="0" i="1" lang="en-US" sz="2400" spc="-1" strike="noStrike">
                <a:solidFill>
                  <a:srgbClr val="000000"/>
                </a:solidFill>
                <a:latin typeface="Footlight MT Light"/>
              </a:rPr>
              <a:t>Pride in Indian Culture, Heritage Resurging, Says Old Elk</a:t>
            </a:r>
            <a:r>
              <a:rPr b="0" lang="en-US" sz="2400" spc="-1" strike="noStrike">
                <a:solidFill>
                  <a:srgbClr val="000000"/>
                </a:solidFill>
                <a:latin typeface="Footlight MT Light"/>
              </a:rPr>
              <a:t>.  Retrieved January 31, 2007 from United States Department of Defense, American Forces Information Service, News Articles, Web site:  http://www.defenselink.mil/ news/Nov2003/n11202003_200311203.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Beliefs Common to Most Plains Tribes</a:t>
            </a:r>
            <a:endParaRPr b="0" lang="en-US" sz="2800" spc="-1" strike="noStrike">
              <a:solidFill>
                <a:srgbClr val="000000"/>
              </a:solidFill>
              <a:latin typeface="Times New Roman"/>
            </a:endParaRPr>
          </a:p>
        </p:txBody>
      </p:sp>
      <p:sp>
        <p:nvSpPr>
          <p:cNvPr id="103" name="Rectangle 3"/>
          <p:cNvSpPr/>
          <p:nvPr/>
        </p:nvSpPr>
        <p:spPr>
          <a:xfrm>
            <a:off x="1066680" y="1981080"/>
            <a:ext cx="7772400" cy="449604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re is a Supreme Being, a Creator, a Great Spirit, G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verything the Great Spirit has created is go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Many lesser spirits wander the earth, some control weather, some interact with humans, some inhabit the under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lants and animals, as well as humans, are part of a spirit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is spirit world exists side-by-side with the physical world and often intermingles with this physic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fore you were conceived, before you were born, you had a spirit.</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your body dies, your spirit will live on.</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ke care of Mother Earth, and Mother Earth will take care of you.</a:t>
            </a: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Values of Most Plains Tribes</a:t>
            </a:r>
            <a:endParaRPr b="0" lang="en-US" sz="2800" spc="-1" strike="noStrike">
              <a:solidFill>
                <a:srgbClr val="000000"/>
              </a:solidFill>
              <a:latin typeface="Times New Roman"/>
            </a:endParaRPr>
          </a:p>
        </p:txBody>
      </p:sp>
      <p:sp>
        <p:nvSpPr>
          <p:cNvPr id="106"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Courag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eadershi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Du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ove  </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Fortitud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Respect</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Generosi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sponsibility</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Hones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vere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Honor</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Wisdom</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Industry</a:t>
            </a: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p:txBody>
      </p:sp>
      <p:sp>
        <p:nvSpPr>
          <p:cNvPr id="109"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Naming Ceremony</a:t>
            </a:r>
            <a:r>
              <a:rPr b="0" lang="en-US" sz="2400" spc="-1" strike="noStrike">
                <a:solidFill>
                  <a:srgbClr val="000000"/>
                </a:solidFill>
                <a:latin typeface="Footlight MT Light"/>
              </a:rPr>
              <a:t> – To give person a name</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Storytelling / Listening</a:t>
            </a:r>
            <a:r>
              <a:rPr b="0" lang="en-US" sz="2400" spc="-1" strike="noStrike">
                <a:solidFill>
                  <a:srgbClr val="000000"/>
                </a:solidFill>
                <a:latin typeface="Footlight MT Light"/>
              </a:rPr>
              <a:t> – Method of teach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Vision Quest</a:t>
            </a:r>
            <a:r>
              <a:rPr b="0" lang="en-US" sz="2400" spc="-1" strike="noStrike">
                <a:solidFill>
                  <a:srgbClr val="000000"/>
                </a:solidFill>
                <a:latin typeface="Footlight MT Light"/>
              </a:rPr>
              <a:t> – Passage from boyhood to manhood</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Pow-Wow</a:t>
            </a:r>
            <a:r>
              <a:rPr b="0" lang="en-US" sz="2400" spc="-1" strike="noStrike">
                <a:solidFill>
                  <a:srgbClr val="000000"/>
                </a:solidFill>
                <a:latin typeface="Footlight MT Light"/>
              </a:rPr>
              <a:t> – Place to socialize with other tribe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Renewal Celebra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un Dance</a:t>
            </a:r>
            <a:r>
              <a:rPr b="0" lang="en-US" sz="2400" spc="-1" strike="noStrike">
                <a:solidFill>
                  <a:srgbClr val="000000"/>
                </a:solidFill>
                <a:latin typeface="Footlight MT Light"/>
              </a:rPr>
              <a:t> – a replay of crea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weat Lodge</a:t>
            </a:r>
            <a:r>
              <a:rPr b="0" lang="en-US" sz="2400" spc="-1" strike="noStrike">
                <a:solidFill>
                  <a:srgbClr val="000000"/>
                </a:solidFill>
                <a:latin typeface="Footlight MT Light"/>
              </a:rPr>
              <a:t> – for spiritual renewal and heal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Grand Medicine Lodge</a:t>
            </a:r>
            <a:r>
              <a:rPr b="0" lang="en-US" sz="2400" spc="-1" strike="noStrike">
                <a:solidFill>
                  <a:srgbClr val="000000"/>
                </a:solidFill>
                <a:latin typeface="Footlight MT Light"/>
              </a:rPr>
              <a:t> – Good place to learn tradi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Hunting Ceremonies</a:t>
            </a:r>
            <a:r>
              <a:rPr b="0" lang="en-US" sz="2400" spc="-1" strike="noStrike">
                <a:solidFill>
                  <a:srgbClr val="000000"/>
                </a:solidFill>
                <a:latin typeface="Footlight MT Light"/>
              </a:rPr>
              <a:t> – to appease spirits of animals killed</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ily Practices</a:t>
            </a:r>
            <a:endParaRPr b="0" lang="en-US" sz="2400" spc="-1" strike="noStrike">
              <a:solidFill>
                <a:srgbClr val="000000"/>
              </a:solidFill>
              <a:latin typeface="Times New Roman"/>
            </a:endParaRPr>
          </a:p>
        </p:txBody>
      </p:sp>
      <p:sp>
        <p:nvSpPr>
          <p:cNvPr id="112" name="Rectangle 3"/>
          <p:cNvSpPr/>
          <p:nvPr/>
        </p:nvSpPr>
        <p:spPr>
          <a:xfrm>
            <a:off x="990720" y="1752480"/>
            <a:ext cx="7848360" cy="51055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wellings – oriented with the doorway on the east so a person awakened to the rising sun.  The understanding was the Creator was sending daylight, warmth, growth and enlightenment to each person to begin a new day.</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orning Prayers – After awakening, the individual would pray, thanking the Creator for blessings and new opportunities.  A confession of responsibility was made to other people.  Sacrifices were give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acred Path – Day began with man walking reverently along a sacred path, among all living things on earth and under the supernatural powers dwelling in heaven.</a:t>
            </a:r>
            <a:endParaRPr b="0" lang="en-US" sz="2400" spc="-1" strike="noStrike">
              <a:solidFill>
                <a:srgbClr val="000000"/>
              </a:solidFill>
              <a:latin typeface="Times New Roman"/>
            </a:endParaRPr>
          </a:p>
        </p:txBody>
      </p:sp>
      <p:sp>
        <p:nvSpPr>
          <p:cNvPr id="1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Children</a:t>
            </a:r>
            <a:endParaRPr b="0" lang="en-US" sz="2800" spc="-1" strike="noStrike">
              <a:solidFill>
                <a:srgbClr val="000000"/>
              </a:solidFill>
              <a:latin typeface="Times New Roman"/>
            </a:endParaRPr>
          </a:p>
        </p:txBody>
      </p:sp>
      <p:sp>
        <p:nvSpPr>
          <p:cNvPr id="115"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esponsibilit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Seek Knowledge from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o be Quiet and Lis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by Exam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Respect the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hrough play, by practicing what they see</a:t>
            </a:r>
            <a:endParaRPr b="0" lang="en-US" sz="2400" spc="-1" strike="noStrike">
              <a:solidFill>
                <a:srgbClr val="000000"/>
              </a:solidFill>
              <a:latin typeface="Times New Roman"/>
            </a:endParaRPr>
          </a:p>
        </p:txBody>
      </p:sp>
      <p:sp>
        <p:nvSpPr>
          <p:cNvPr id="1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Men</a:t>
            </a:r>
            <a:endParaRPr b="0" lang="en-US" sz="2800" spc="-1" strike="noStrike">
              <a:solidFill>
                <a:srgbClr val="000000"/>
              </a:solidFill>
              <a:latin typeface="Times New Roman"/>
            </a:endParaRPr>
          </a:p>
        </p:txBody>
      </p:sp>
      <p:sp>
        <p:nvSpPr>
          <p:cNvPr id="118"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tectors (Warriors) – Keep tribe sa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unters – Provided for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nducted 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de items for Rituals/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each older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Women</a:t>
            </a:r>
            <a:endParaRPr b="0" lang="en-US" sz="2800" spc="-1" strike="noStrike">
              <a:solidFill>
                <a:srgbClr val="000000"/>
              </a:solidFill>
              <a:latin typeface="Times New Roman"/>
            </a:endParaRPr>
          </a:p>
        </p:txBody>
      </p:sp>
      <p:sp>
        <p:nvSpPr>
          <p:cNvPr id="12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cess food</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ok</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ke garm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et up camp or take down cam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ake care of young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Family ties handed down through wom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57:43Z</dcterms:created>
  <dc:creator>Susan</dc:creator>
  <dc:description/>
  <dc:language>en-US</dc:language>
  <cp:lastModifiedBy>Legion</cp:lastModifiedBy>
  <dcterms:modified xsi:type="dcterms:W3CDTF">2017-07-05T12:22:40Z</dcterms:modified>
  <cp:revision>18</cp:revision>
  <dc:subject/>
  <dc:title>PowerPoint Presentation</dc:title>
</cp:coreProperties>
</file>